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7.png" ContentType="image/png"/>
  <Override PartName="/ppt/media/type.wav" ContentType="audio/x-wav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0.xml" ContentType="application/vnd.openxmlformats-officedocument.presentationml.comments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26T23:19:16.398000000" idx="1">
    <p:pos x="1479" y="856"/>
    <p:text/>
  </p:cm>
</p:cmLst>
</file>

<file path=ppt/comments/comment15.xml><?xml version="1.0" encoding="utf-8"?>
<p:cmLst xmlns:p="http://schemas.openxmlformats.org/presentationml/2006/main">
  <p:cm authorId="0" dt="2016-08-26T23:19:22.421000000" idx="2">
    <p:pos x="5039" y="15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594-36D6-4A68-BE37-C2736FD3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3C0-79E1-4834-BC1D-9796355B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479C2-21C3-477D-87F5-0F39D7C5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B386D-E7C6-4784-A70A-FAA41873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640FE-E96C-4ADC-AE9A-F6984BB3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CCAB-0719-4A8D-A96D-30C15D78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A39FD-665B-48EE-A8BF-EA42B37C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EA062-9677-4E86-8DB5-5906159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383AA-9A65-4D2A-8ECC-7AC4A90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9870C-83F2-4ABA-A59A-1634D586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0E53B-8979-40AF-89F7-8B0D99DB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C0EFE-DB5C-4937-8EA7-ED0541E3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69B-912E-42B3-93E1-2B223076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2427E-8251-4544-907D-96B5041B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C1770-DC0C-47C2-ABE6-1588C3DC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BB184-B7DB-4B69-A0A0-939398EE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A90C2-51E2-4E26-BB73-EC34D334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219E0-E28D-4C98-913B-4152B94F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AAB03-49DF-401A-8678-70CFEC5D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9E117-1C3B-4C0C-824A-44DCA49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EA4CB-9A72-4706-9087-1965490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5FE3-37B6-43B1-AA77-F79BAAB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5F1C8-2336-4BCC-BCDE-741AC9AF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4C3-4765-4961-8D52-6A4ACEFD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F9492-78FF-40C9-85A8-C8161963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845E4-499B-44E2-B3F4-AFC798A5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496E-D935-4938-824A-DACDABF8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AA003-9A9D-41C3-861E-BAC90F8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E46C0-B0BB-4000-BA46-F8E9223E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EB06D-A1A8-4DCB-B148-6F646EDC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02D31-044D-406E-908F-D236215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D39D3-9867-474E-A3FB-8548BF4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224F-976B-4059-A0C5-3D047DF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3184D-5D0D-44E8-BAB4-1654D64D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DF71-EDFE-4628-BE2D-4617AD98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30D7E-779B-483C-86F4-F9ED2D78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4D28E-B93E-4CF2-A05A-52863383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8BBAB-A2B2-46B9-8FEE-5EC62CAC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DA4FB-EFEA-46F6-A24E-2D8C7E23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E73FA-F164-453D-923A-4A20C58A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236BF-A37F-4AA9-9091-F8E16D9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30DB3-9C3A-401C-9D11-696E9E25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DC39E-C83C-4CAA-8A5E-92345DB5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9476B-F6A4-4CC9-B1CC-77EF36C0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DFD46-AF1E-4D89-8B9B-6BF0B89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4B6-CAD5-4FA7-9DAE-843BD196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D2908-19C6-44CB-8ED8-5222AA7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FDF99-8293-44F0-A01C-7655996F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E3B3D-9148-43EB-918E-2E9AD99E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882C6-C3ED-435D-A92F-592AF837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152EE-08CA-47DF-BB40-F55EAFF3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F96-C4F1-40A1-9305-D11CE08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0431-3762-49E5-A69A-4A457448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37ED-4114-4C88-A528-58B8D562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F938-86A5-48EB-BDD0-51EB3D0A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06A8-60C5-4598-BA6F-D16DB57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004-A41D-4613-B76C-6CCCAB79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633-A8DE-4DCF-9432-95D33998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2223-5D22-4E78-9716-3FA02B5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FFDA-ECCD-4A48-9B56-F78AFEF2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9456-FE9E-4DD4-B331-810D19E4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32A-BC98-47FC-809C-590F3181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ADFE-6091-4C6A-A70B-CA928728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67D0-8D74-425D-934B-396EF7CF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4927-7C0C-4A59-9F22-F076E16B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E9F9-7915-48E5-B2AA-0E8877C6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B99B-E3B8-47B2-AD63-F7FD0859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50E-DE26-4023-97DE-4175CCF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8366-2188-4CF4-9DDE-C9CA65D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8AE5-B957-4A9B-BF3E-BCA8DC3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0A6E-6914-403D-8972-1C7A437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63FD-97C0-45D0-AFA6-17577B1A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6523-2090-4415-B064-851C56FE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125E-FC9C-416E-B58E-014433A7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B80B-33AE-459B-B974-3573E592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41B1-E5B9-4BB4-AF90-D184CE70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37FA-380B-44A3-AB86-E72BFA28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5802-67D5-4188-8024-B9AACE6C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CFD-9B1E-499C-AE7F-C29BED72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F5A54-FA35-410B-9296-58C5477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1F60-0035-45E3-94A8-95D85C96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B584-D699-4DC1-8AA9-82AA18E0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CACF-5840-4FDE-9CE3-5CF156A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C6F0-3822-46B8-8C0E-F26EFFFE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BFAC-1BF5-494D-9011-CA297AF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FE6F-B6A2-4C9D-AEC0-31E04F91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05A8-F569-429B-A37D-9B7683A2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7B0DB-CDDD-404F-87F3-DD7B45DA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2DED-55B0-40D8-AD1E-C4A531D4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06E-8D42-4E97-BBBB-D6E7EF6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2554-F643-4FC1-8D66-751B062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729DB-405E-4AA9-A25C-EB39C8C7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51323-B705-4DBB-94CF-603977D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F5226-F2B9-4193-AAAE-7EB1BDC6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1727D-8831-4079-B844-EE717CC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37C75-C463-4B74-B699-8779808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468B-0A89-4A60-A3F0-76B618A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D334D-CEF4-4B68-A3EC-7B1C9C4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A597-C144-4E81-8430-A546C10A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E65D-2DE8-4A31-8A41-CD1734E3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1F4-0534-4B92-916C-607219ED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AD12-C212-4E96-86AA-362FC7AF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460E0-82A3-4EF0-A747-BE8D23B6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526F9-F3BB-4AFE-93C3-1EF0698C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CD4D-0BE5-4E71-83C8-7A4FEB21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1D46B-4A9E-4CDC-A787-E1ED41F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C129B-9BF9-452D-84E2-283E7E2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6A7C-FE1E-47B1-990E-7A939EE4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3B3D7-E931-4207-B01C-6B5B2BB0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8EAC8-D634-4CAD-9293-281BFBC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4735-1AE7-425C-8B2C-C6157F4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220-70B6-4F3C-97D4-0E71382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92D21-F94C-423B-8D7E-F9710FCE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34406-DD75-41CF-BA50-C8A17BAE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F783F-494F-41C3-9DDF-0FF13002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5ACDC-44FC-4EDA-B969-448DAD80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981B-EBB7-499D-B42A-D4D87AE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3211-2F22-4C6B-83B2-F3BF99C8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83B3A-A598-4EAC-9B7C-E05B95A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72FE-61F9-4B88-8EBC-11A9388B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35B6B-0BFC-4D11-B7AE-69370D90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EAD5F-9509-4642-B096-016D9EA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661-FB15-48FC-9CFE-DCAE148E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6151B-051F-460F-A32D-33ADCD9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3EC95-7835-493B-94BF-41CEA09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CCD7-2CFA-4D75-80A6-C84F3194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CB241-799D-4FA3-ABD5-080BC629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04259-3F22-48CE-8A22-786AF3B0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FCB90-20B3-4A49-BFE9-9FAE43A7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D0D7-3479-4C6A-8B23-DB15431D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912F9-A731-46A2-8F29-EBDD37B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26E9D-D964-4C18-8129-B405F36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59643-AFDD-4B7F-A22B-E21B93D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94B-AF69-4D8C-817B-DC37B99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52976-9CEA-4EE4-857C-8002B36D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5AE75-FF61-4D64-B008-18C1957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ADCA8-8D2B-47FF-B5CA-E60ECD37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1BC93-578B-4FEA-8578-AD959AC9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7C48-B416-42C0-8D59-E8ABA311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1E46E-ED29-414B-B5BF-274A6324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E64F4-CF37-4268-8200-D9EFF371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20BC2-4954-4193-BFAC-3FA9E50E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F3F45-7F72-4342-9B81-E5BB2B6B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73ECC-27DD-45C9-9299-3733ADA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4F4F-1038-470A-9B30-BE3E17480D1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6A06-9FE4-4C5C-972A-1F2C58AE0A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9EB-52B9-4CDA-86CB-83A2125DFDC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B5A5-317E-42B0-8F2E-00A7C520C3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656-0657-47FD-B24F-2808E8F6E62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BE09-4346-4354-8D12-B1ADE185BFF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D022-888A-4E20-B692-1F2912206B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1BEA-F40B-4E2A-AF4D-0C3F8C812B0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005C-DB7D-4B76-99D4-67C2CED2566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3258-15DC-4AF8-A978-0264DBDA116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51B5-BEA1-470C-BD32-D2C1790DF7E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C987-6173-4CE6-8758-6A1B7865B6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85.xml"/><Relationship Id="rId6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1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2" name="矩形 4"/>
          <p:cNvSpPr/>
          <p:nvPr/>
        </p:nvSpPr>
        <p:spPr>
          <a:xfrm>
            <a:off x="3675960" y="649440"/>
            <a:ext cx="300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j  q  x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同侧圆角矩形 3"/>
          <p:cNvSpPr/>
          <p:nvPr/>
        </p:nvSpPr>
        <p:spPr>
          <a:xfrm>
            <a:off x="468360" y="132876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3" name="图片 1" descr=""/>
          <p:cNvPicPr/>
          <p:nvPr/>
        </p:nvPicPr>
        <p:blipFill>
          <a:blip r:embed="rId1"/>
          <a:stretch/>
        </p:blipFill>
        <p:spPr>
          <a:xfrm>
            <a:off x="476280" y="1897200"/>
            <a:ext cx="804060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6" name="图片 1" descr=""/>
          <p:cNvPicPr/>
          <p:nvPr/>
        </p:nvPicPr>
        <p:blipFill>
          <a:blip r:embed="rId1"/>
          <a:stretch/>
        </p:blipFill>
        <p:spPr>
          <a:xfrm>
            <a:off x="1308240" y="1927080"/>
            <a:ext cx="691488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直线连接符 21"/>
          <p:cNvSpPr/>
          <p:nvPr/>
        </p:nvSpPr>
        <p:spPr>
          <a:xfrm flipV="1">
            <a:off x="468360" y="14144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9" name="图片 1" descr=""/>
          <p:cNvPicPr/>
          <p:nvPr/>
        </p:nvPicPr>
        <p:blipFill>
          <a:blip r:embed="rId1"/>
          <a:stretch/>
        </p:blipFill>
        <p:spPr>
          <a:xfrm>
            <a:off x="708120" y="1547640"/>
            <a:ext cx="7742160" cy="45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h06-013"/>
          <p:cNvPicPr/>
          <p:nvPr/>
        </p:nvPicPr>
        <p:blipFill>
          <a:blip r:embed="rId1"/>
          <a:stretch/>
        </p:blipFill>
        <p:spPr>
          <a:xfrm>
            <a:off x="108000" y="981000"/>
            <a:ext cx="8940600" cy="5300640"/>
          </a:xfrm>
          <a:prstGeom prst="rect">
            <a:avLst/>
          </a:prstGeom>
          <a:ln w="0">
            <a:noFill/>
          </a:ln>
        </p:spPr>
      </p:pic>
      <p:sp>
        <p:nvSpPr>
          <p:cNvPr id="56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006[1]"/>
          <p:cNvPicPr/>
          <p:nvPr/>
        </p:nvPicPr>
        <p:blipFill>
          <a:blip r:embed="rId1"/>
          <a:stretch/>
        </p:blipFill>
        <p:spPr>
          <a:xfrm>
            <a:off x="179280" y="1054080"/>
            <a:ext cx="8818560" cy="522612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629080" y="1119600"/>
            <a:ext cx="399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Xià  q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下 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xǐ  yī  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fu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洗 衣 服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dā  jī  m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搭 积 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1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42124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"/>
          <p:cNvSpPr/>
          <p:nvPr/>
        </p:nvSpPr>
        <p:spPr>
          <a:xfrm>
            <a:off x="3598560" y="1701720"/>
            <a:ext cx="364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花  国  火  家  下  架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果    画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9" name="Picture 63" descr="katongxingxiang2_071"/>
          <p:cNvPicPr/>
          <p:nvPr/>
        </p:nvPicPr>
        <p:blipFill>
          <a:blip r:embed="rId2"/>
          <a:stretch/>
        </p:blipFill>
        <p:spPr>
          <a:xfrm>
            <a:off x="5869080" y="2565360"/>
            <a:ext cx="3162240" cy="346248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64"/>
          <p:cNvSpPr/>
          <p:nvPr/>
        </p:nvSpPr>
        <p:spPr>
          <a:xfrm>
            <a:off x="1042920" y="3573360"/>
            <a:ext cx="4105440" cy="1943280"/>
          </a:xfrm>
          <a:custGeom>
            <a:avLst/>
            <a:gdLst>
              <a:gd name="textAreaLeft" fmla="*/ 0 w 4105440"/>
              <a:gd name="textAreaRight" fmla="*/ 4105800 w 4105440"/>
              <a:gd name="textAreaTop" fmla="*/ 505440 h 1943280"/>
              <a:gd name="textAreaBottom" fmla="*/ 14378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小朋友读得可真棒呀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!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椭圆 2"/>
          <p:cNvSpPr/>
          <p:nvPr/>
        </p:nvSpPr>
        <p:spPr>
          <a:xfrm>
            <a:off x="3279600" y="1125360"/>
            <a:ext cx="3024360" cy="1295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4" name="图片 1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016840" cy="58039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2"/>
          <p:cNvSpPr/>
          <p:nvPr/>
        </p:nvSpPr>
        <p:spPr>
          <a:xfrm>
            <a:off x="3875040" y="1558080"/>
            <a:ext cx="2619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在一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小黄</a:t>
            </a:r>
            <a:r>
              <a:rPr b="0" i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鸡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小黑鸡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欢欢</a:t>
            </a:r>
            <a:r>
              <a:rPr b="0" i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喜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喜在一起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刨刨土，捉捉虫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青草地上做游</a:t>
            </a:r>
            <a:r>
              <a:rPr b="0" i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戏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9" name="图片 1" descr=""/>
          <p:cNvPicPr/>
          <p:nvPr/>
        </p:nvPicPr>
        <p:blipFill>
          <a:blip r:embed="rId1"/>
          <a:stretch/>
        </p:blipFill>
        <p:spPr>
          <a:xfrm>
            <a:off x="1020600" y="1900080"/>
            <a:ext cx="7072560" cy="43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6512040" y="1197000"/>
            <a:ext cx="1152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j</a:t>
            </a:r>
            <a:endParaRPr b="0" i="1" lang="en-US" sz="2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260360" y="220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一只小鸡</a:t>
            </a:r>
            <a:r>
              <a:rPr b="0" i="1" lang="zh-CN" sz="32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j</a:t>
            </a:r>
            <a:r>
              <a:rPr b="0" i="1" lang="zh-CN" sz="32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2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j</a:t>
            </a:r>
            <a:r>
              <a:rPr b="0" i="1" lang="zh-CN" sz="32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2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j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7" name="图片 1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876640" cy="33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1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70880" cy="5184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j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35440" y="32338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先写竖左弯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写小圆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580000" y="13399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竖弯加点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j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j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j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1" descr=""/>
          <p:cNvPicPr/>
          <p:nvPr/>
        </p:nvPicPr>
        <p:blipFill>
          <a:blip r:embed="rId1"/>
          <a:stretch/>
        </p:blipFill>
        <p:spPr>
          <a:xfrm>
            <a:off x="860400" y="1967040"/>
            <a:ext cx="7620120" cy="42685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1332000" y="907920"/>
            <a:ext cx="208908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5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</a:t>
            </a:r>
            <a:endParaRPr b="0" i="1" lang="en-US" sz="27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924360" y="3357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气球拖线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q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q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q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52560" y="757080"/>
            <a:ext cx="9059760" cy="54802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995640" y="407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左上半圆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4a11c41185d339a3277fb588"/>
          <p:cNvPicPr/>
          <p:nvPr/>
        </p:nvPicPr>
        <p:blipFill>
          <a:blip r:embed="rId1"/>
          <a:stretch/>
        </p:blipFill>
        <p:spPr>
          <a:xfrm>
            <a:off x="108000" y="982800"/>
            <a:ext cx="8966160" cy="537372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"/>
          <p:cNvSpPr/>
          <p:nvPr/>
        </p:nvSpPr>
        <p:spPr>
          <a:xfrm>
            <a:off x="1344600" y="25560"/>
            <a:ext cx="1447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5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x</a:t>
            </a:r>
            <a:endParaRPr b="0" i="1" lang="en-US" sz="32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4297320" y="1943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刀切西瓜</a:t>
            </a:r>
            <a:r>
              <a:rPr b="0" i="1" lang="en-US" sz="36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x</a:t>
            </a:r>
            <a:r>
              <a:rPr b="0" i="1" lang="zh-CN" sz="36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6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x</a:t>
            </a:r>
            <a:r>
              <a:rPr b="0" i="1" lang="zh-CN" sz="36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600" spc="-1" strike="noStrike" u="sng">
                <a:solidFill>
                  <a:srgbClr val="000099"/>
                </a:solidFill>
                <a:uFillTx/>
                <a:latin typeface="Calibri"/>
                <a:ea typeface="宋体"/>
              </a:rPr>
              <a:t>x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4" descr=""/>
          <p:cNvPicPr/>
          <p:nvPr/>
        </p:nvPicPr>
        <p:blipFill>
          <a:blip r:embed="rId1"/>
          <a:stretch/>
        </p:blipFill>
        <p:spPr>
          <a:xfrm>
            <a:off x="158760" y="981000"/>
            <a:ext cx="8929800" cy="5400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2"/>
          <p:cNvSpPr/>
          <p:nvPr/>
        </p:nvSpPr>
        <p:spPr>
          <a:xfrm>
            <a:off x="3817800" y="1568520"/>
            <a:ext cx="165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x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276720" y="43545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先右斜再左斜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3111480" y="15685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像个叉叉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x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x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28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x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7" name="图片 1" descr="}M655J9AJILB_)M7EDS(B9C"/>
          <p:cNvPicPr/>
          <p:nvPr/>
        </p:nvPicPr>
        <p:blipFill>
          <a:blip r:embed="rId1"/>
          <a:stretch/>
        </p:blipFill>
        <p:spPr>
          <a:xfrm>
            <a:off x="596880" y="1851120"/>
            <a:ext cx="729288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1420920" y="1957320"/>
            <a:ext cx="72943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1:40:40Z</dcterms:created>
  <dc:creator/>
  <dc:description/>
  <dc:language>en-US</dc:language>
  <cp:lastModifiedBy>万润仪器贸易公司</cp:lastModifiedBy>
  <dcterms:modified xsi:type="dcterms:W3CDTF">2020-08-24T01:40:4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